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E97-F515-4835-9C61-18FE147D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934-11B3-4EF6-8180-0DAA95A4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0CE-5B59-48E3-9E7E-88F410AA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6CD-F64E-4669-BAA6-B0BFEB21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894-C4C6-408C-A8FF-FE302B61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BE3-777E-4130-8E9D-ADC0EF93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9C1-D8C4-4417-AB23-E046BE04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80D-49C8-4B4F-AADD-C7472A1D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774-D654-4ECF-8ED4-6F7BA9A9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3BA-3B39-4AE2-84A3-0BCDC00D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6F4-420B-449C-9B57-1CDA2A59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8B9-70D0-460B-BD4C-C6655E2A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263D-9447-4268-85B9-17B2B8872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spberry" TargetMode="External"/><Relationship Id="rId2" Type="http://schemas.openxmlformats.org/officeDocument/2006/relationships/hyperlink" Target="http://en.wikipedia.org/wiki/Rubus" TargetMode="External"/><Relationship Id="rId3" Type="http://schemas.openxmlformats.org/officeDocument/2006/relationships/hyperlink" Target="http://en.wikipedia.org/wiki/Europe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ed 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; occasionally as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European 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Frambois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or simply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aspberr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is a red-fruited species of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ub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native to </a:t>
            </a:r>
            <a:r>
              <a:rPr b="0" lang="ro-RO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urop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nd northern Asia and commonly cultivated in other temperate regions.[1][2] A closely related plant in North America, sometimes regarded as the variety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var.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trigos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is more commonly treated as a distinct species,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strigos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American Red Raspberry), as is done here.[3] Red-fruited cultivated raspberries, even in North America, are generally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or horticultural derivatives of hybrids of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. idaeu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. strigosus;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these plants are all addressed in the present art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20:50Z</dcterms:created>
  <dc:creator>Elev</dc:creator>
  <dc:description/>
  <dc:language>en-US</dc:language>
  <cp:lastModifiedBy>Elev</cp:lastModifiedBy>
  <dcterms:modified xsi:type="dcterms:W3CDTF">2012-06-18T10:3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